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FB2-A99F-4E10-A481-D4B5FB09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712-4F29-4801-A8F8-53933F8A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101-664F-4885-891A-A11D870F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130-A43C-460C-97A7-241A03DA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09C-D5B3-49A0-AB0D-1F39C9D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C1A-B9CC-42E5-9317-72DC8C2E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01B-A06B-496F-A1C0-AFA03496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6A6-793E-4163-8B05-394CF554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751-4935-4007-834E-D145816E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0A3-7BDE-4D11-9DD7-F1A4D8BA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522-C1AA-44D9-B03C-2AA527D5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16C-0477-4C05-A122-3E3E5456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F24D-0568-413B-9B56-8F623AB78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image" Target="../media/image16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2212" t="37709" r="46669" b="27034"/>
          <a:stretch/>
        </p:blipFill>
        <p:spPr>
          <a:xfrm>
            <a:off x="2627280" y="2276640"/>
            <a:ext cx="4989600" cy="403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5080"/>
            <a:ext cx="9144000" cy="709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TINO DE LOS ESQUELETOS CARB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04000" y="6093000"/>
            <a:ext cx="18478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29520" y="5013360"/>
            <a:ext cx="1914480" cy="79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g, P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st, Glu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12000" y="5805360"/>
            <a:ext cx="185760" cy="43344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1773360"/>
            <a:ext cx="18716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5640" y="2205000"/>
            <a:ext cx="185760" cy="43344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2708280"/>
            <a:ext cx="23032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052640"/>
            <a:ext cx="1978200" cy="722880"/>
          </a:xfrm>
          <a:prstGeom prst="rect">
            <a:avLst/>
          </a:prstGeom>
          <a:solidFill>
            <a:srgbClr val="fde9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-ala, L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ipt,Lis,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268280"/>
            <a:ext cx="15843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-A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9440" y="907920"/>
            <a:ext cx="15112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10560" y="836640"/>
            <a:ext cx="2233440" cy="863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a,Cist,S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eo,Gli,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440040" y="1231200"/>
            <a:ext cx="374760" cy="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1557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1700280"/>
            <a:ext cx="2890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34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852640"/>
            <a:ext cx="5540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3935520"/>
            <a:ext cx="1548000" cy="349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-ala,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57400" y="4292640"/>
            <a:ext cx="462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11640" y="630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084640"/>
            <a:ext cx="1942920" cy="349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,Isol,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195640" y="5300640"/>
            <a:ext cx="576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328464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5445000"/>
            <a:ext cx="1008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4365720"/>
            <a:ext cx="576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716280"/>
            <a:ext cx="1728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3860640"/>
            <a:ext cx="2125800" cy="45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9800" y="2852640"/>
            <a:ext cx="2116080" cy="45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9440" y="5013360"/>
            <a:ext cx="213336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89560" y="5661000"/>
            <a:ext cx="1584360" cy="8254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 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2133720"/>
            <a:ext cx="360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2852640"/>
            <a:ext cx="2914560" cy="459720"/>
            <a:chOff x="0" y="2852640"/>
            <a:chExt cx="2914560" cy="459720"/>
          </a:xfrm>
        </p:grpSpPr>
        <p:sp>
          <p:nvSpPr>
            <p:cNvPr id="74" name=""/>
            <p:cNvSpPr/>
            <p:nvPr/>
          </p:nvSpPr>
          <p:spPr>
            <a:xfrm>
              <a:off x="1763640" y="2852640"/>
              <a:ext cx="865440" cy="4597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2852640"/>
              <a:ext cx="1042920" cy="459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sp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85840" y="30686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1280" y="306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448160" y="4005360"/>
            <a:ext cx="2422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588000" y="1773360"/>
            <a:ext cx="2374920" cy="722880"/>
            <a:chOff x="6588000" y="1773360"/>
            <a:chExt cx="2374920" cy="722880"/>
          </a:xfrm>
        </p:grpSpPr>
        <p:sp>
          <p:nvSpPr>
            <p:cNvPr id="80" name=""/>
            <p:cNvSpPr/>
            <p:nvPr/>
          </p:nvSpPr>
          <p:spPr>
            <a:xfrm>
              <a:off x="7235640" y="1773360"/>
              <a:ext cx="1727280" cy="722880"/>
            </a:xfrm>
            <a:prstGeom prst="rect">
              <a:avLst/>
            </a:prstGeom>
            <a:solidFill>
              <a:srgbClr val="fde9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Leu, Isol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reo,Tr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588000" y="20620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000" y="333000"/>
            <a:ext cx="882036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NOACIDO QUE RINDEN OXAL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22320" y="4149720"/>
            <a:ext cx="2282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205000"/>
            <a:ext cx="2808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ARR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4221000"/>
            <a:ext cx="2631960" cy="459720"/>
          </a:xfrm>
          <a:prstGeom prst="rect">
            <a:avLst/>
          </a:prstGeom>
          <a:solidFill>
            <a:srgbClr val="ef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852640"/>
            <a:ext cx="217440" cy="1224000"/>
          </a:xfrm>
          <a:prstGeom prst="downArrow">
            <a:avLst>
              <a:gd name="adj1" fmla="val 50000"/>
              <a:gd name="adj2" fmla="val 14072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4356000" y="3573000"/>
            <a:ext cx="215640" cy="1800000"/>
          </a:xfrm>
          <a:prstGeom prst="downArrow">
            <a:avLst>
              <a:gd name="adj1" fmla="val 50000"/>
              <a:gd name="adj2" fmla="val 20868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3068640"/>
            <a:ext cx="23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sparrag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4005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3500280"/>
            <a:ext cx="792000" cy="40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2781360"/>
            <a:ext cx="648000" cy="40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306864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4869000"/>
            <a:ext cx="24476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9600" y="4906800"/>
            <a:ext cx="17780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653000"/>
            <a:ext cx="647640" cy="216000"/>
          </a:xfrm>
          <a:custGeom>
            <a:avLst/>
            <a:gdLst>
              <a:gd name="textAreaLeft" fmla="*/ 113400 w 647640"/>
              <a:gd name="textAreaRight" fmla="*/ 469800 w 647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de la Fenilalanina y Tiro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dos aminoácidos se degradan por la misma vía y dan lugar a fumarato y acetoace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partir de Fenilalanina se forma tirosina por ello se la considera aminoácido es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nilalanina también puede transaminar para dar los cetoácidos fenilpirúvico y fenilláctico (vía poco ac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ón de l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nilalanina Hidrox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9045" t="0" r="14583" b="36784"/>
          <a:stretch/>
        </p:blipFill>
        <p:spPr>
          <a:xfrm>
            <a:off x="289080" y="1547640"/>
            <a:ext cx="8604000" cy="4257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35280" y="2565360"/>
            <a:ext cx="180036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Fenilalanina hidr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5229360"/>
            <a:ext cx="19447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Arial"/>
              </a:rPr>
              <a:t>Dihidropterina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6308640"/>
            <a:ext cx="640872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genasa de función mixta: -OH y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5373720"/>
            <a:ext cx="180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+ 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3141720"/>
            <a:ext cx="208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59640" y="3141720"/>
            <a:ext cx="1439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4941720"/>
            <a:ext cx="190800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0360" y="5373720"/>
            <a:ext cx="9349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4941720"/>
            <a:ext cx="190836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 DE TRANSAMINACION DE 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68680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unda ruta del metabolismo de fenilalanina, muy poco utiliz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4141800"/>
            <a:ext cx="2808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0920" y="4284720"/>
            <a:ext cx="100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14180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5805360"/>
            <a:ext cx="17287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08720" y="587700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09720" y="4953960"/>
            <a:ext cx="698040" cy="82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4365720"/>
            <a:ext cx="71928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386064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348000" y="4933800"/>
            <a:ext cx="1655640" cy="648000"/>
            <a:chOff x="3348000" y="4933800"/>
            <a:chExt cx="1655640" cy="648000"/>
          </a:xfrm>
        </p:grpSpPr>
        <p:sp>
          <p:nvSpPr>
            <p:cNvPr id="208" name=""/>
            <p:cNvSpPr/>
            <p:nvPr/>
          </p:nvSpPr>
          <p:spPr>
            <a:xfrm flipH="1">
              <a:off x="4140360" y="4933800"/>
              <a:ext cx="86328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8000" y="4941720"/>
              <a:ext cx="865080" cy="405720"/>
            </a:xfrm>
            <a:prstGeom prst="rect">
              <a:avLst/>
            </a:prstGeom>
            <a:solidFill>
              <a:srgbClr val="ebf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11280" y="5084280"/>
              <a:ext cx="431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6"/>
          <a:srcRect l="0" t="0" r="-5192" b="8872"/>
          <a:stretch/>
        </p:blipFill>
        <p:spPr>
          <a:xfrm>
            <a:off x="900000" y="2637000"/>
            <a:ext cx="1095480" cy="134280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4932360" y="2637000"/>
            <a:ext cx="1095480" cy="1342800"/>
            <a:chOff x="4932360" y="2637000"/>
            <a:chExt cx="1095480" cy="1342800"/>
          </a:xfrm>
        </p:grpSpPr>
        <p:pic>
          <p:nvPicPr>
            <p:cNvPr id="213" name="" descr=""/>
            <p:cNvPicPr/>
            <p:nvPr/>
          </p:nvPicPr>
          <p:blipFill>
            <a:blip r:embed="rId7"/>
            <a:srcRect l="0" t="0" r="-5192" b="8872"/>
            <a:stretch/>
          </p:blipFill>
          <p:spPr>
            <a:xfrm>
              <a:off x="4932360" y="2637000"/>
              <a:ext cx="109548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932360" y="3500280"/>
              <a:ext cx="43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 Rectángulo"/>
          <p:cNvSpPr/>
          <p:nvPr/>
        </p:nvSpPr>
        <p:spPr>
          <a:xfrm>
            <a:off x="539640" y="620640"/>
            <a:ext cx="8280360" cy="5639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 el trastorno se detecta a tiempo puede evitarse el daño cerebral administrando una dieta con bajo contenido de fenilalanina y abundante contenido en tiros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s común encontrar alimentos que alertan sobre el no consumo para fenilcetonúricos, por ejemplo, los que contienen como edulcorante el ASPARTAMO, un dipéptido de fenilalanina y aspartato que cuando se hidroliza en el tracto digestivo  libera  fenilalan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3284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ADACION DE TIRO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55640" y="1630440"/>
            <a:ext cx="1293840" cy="1754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39640" y="3213000"/>
            <a:ext cx="179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1700280"/>
            <a:ext cx="24480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o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32360" y="2925720"/>
            <a:ext cx="208908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,2-dioxi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9080" y="2709720"/>
            <a:ext cx="432000" cy="503280"/>
          </a:xfrm>
          <a:custGeom>
            <a:avLst/>
            <a:gdLst>
              <a:gd name="textAreaLeft" fmla="*/ 98640 w 432000"/>
              <a:gd name="textAreaRight" fmla="*/ 333360 w 432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072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32360" y="3933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3236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1917720"/>
            <a:ext cx="576000" cy="287280"/>
          </a:xfrm>
          <a:custGeom>
            <a:avLst/>
            <a:gdLst>
              <a:gd name="textAreaLeft" fmla="*/ 100800 w 576000"/>
              <a:gd name="textAreaRight" fmla="*/ 417600 w 576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1989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CAPT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08720" y="3716280"/>
            <a:ext cx="1440000" cy="1008720"/>
          </a:xfrm>
          <a:prstGeom prst="rect">
            <a:avLst/>
          </a:prstGeom>
          <a:solidFill>
            <a:srgbClr val="7d696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RINA MARRON OSC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12000" y="2421000"/>
            <a:ext cx="360360" cy="1079280"/>
          </a:xfrm>
          <a:prstGeom prst="upArrow">
            <a:avLst>
              <a:gd name="adj1" fmla="val 50000"/>
              <a:gd name="adj2" fmla="val 74875"/>
            </a:avLst>
          </a:prstGeom>
          <a:solidFill>
            <a:srgbClr val="7d69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4724280"/>
            <a:ext cx="223200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25892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6021360"/>
            <a:ext cx="4608720" cy="398880"/>
          </a:xfrm>
          <a:prstGeom prst="rect">
            <a:avLst/>
          </a:prstGeom>
          <a:solidFill>
            <a:srgbClr val="f8a6c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MARATO  +  ACETO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1 CuadroTexto"/>
          <p:cNvSpPr/>
          <p:nvPr/>
        </p:nvSpPr>
        <p:spPr>
          <a:xfrm>
            <a:off x="324000" y="476280"/>
            <a:ext cx="8532720" cy="515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LLAMA  A LA  SUSTANCIA : ALCAP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INALMENTE SE IDENTIFICA EL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ENZIMA DEFICIENTE ES : HOMOGENTÍSIC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32840" cy="114120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minoacidos de cadena ramific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820360" cy="452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ituyen cerca del 40% de los aminoá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metabolizan en tejidos periféricos: Músculo esquelético, músculo cardíaco, tejido adiposo y ríñ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80 % se utilizan para biosíntesis de proteínas y el 20% se degrad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fectos enzimáticos que afectan su degradación producen enfermedades denominadas acidemias orgán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6" descr="http://jralonso.es/files/2012/09/branched-chain-amino-acids.jpg"/>
          <p:cNvPicPr/>
          <p:nvPr/>
        </p:nvPicPr>
        <p:blipFill>
          <a:blip r:embed="rId1"/>
          <a:stretch/>
        </p:blipFill>
        <p:spPr>
          <a:xfrm>
            <a:off x="192240" y="928800"/>
            <a:ext cx="8737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4120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UTAS DE DEGRADACION DE LOS CARBONOS PROVENIENTES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oducen 6 productos dif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2852640"/>
            <a:ext cx="503280" cy="2952720"/>
          </a:xfrm>
          <a:custGeom>
            <a:avLst/>
            <a:gdLst>
              <a:gd name="textAreaLeft" fmla="*/ 0 w 503280"/>
              <a:gd name="textAreaRight" fmla="*/ 18180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3716280"/>
            <a:ext cx="273528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950080"/>
            <a:ext cx="8496000" cy="87588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DOS LOS CARBONOS DE LOS AMINOÁCIDOS PUEDEN DEGRADARSE A 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N 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33327" t="0" r="0" b="0"/>
          <a:stretch/>
        </p:blipFill>
        <p:spPr>
          <a:xfrm>
            <a:off x="684360" y="4365720"/>
            <a:ext cx="7129440" cy="1963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484360" y="5607000"/>
            <a:ext cx="30243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-cetoácido 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60280"/>
            <a:ext cx="8497800" cy="9471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ADACION DE AMINOACIDOS RAMIFICADOS EN TEJIDOS EXTRAHEPA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76360" y="2060640"/>
            <a:ext cx="5830920" cy="2149560"/>
            <a:chOff x="1476360" y="2060640"/>
            <a:chExt cx="5830920" cy="214956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rcRect l="0" t="0" r="50017" b="0"/>
            <a:stretch/>
          </p:blipFill>
          <p:spPr>
            <a:xfrm>
              <a:off x="1476360" y="2060640"/>
              <a:ext cx="5830920" cy="21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492360" y="2997360"/>
              <a:ext cx="194472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amin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3280" y="2139840"/>
              <a:ext cx="39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Aminoácido ramificado aminotransf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95280" y="1413000"/>
            <a:ext cx="8424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OS AMINOACIDOS NO SE DEGRADAN EN HI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4797360"/>
            <a:ext cx="1871640" cy="1202760"/>
          </a:xfrm>
          <a:prstGeom prst="rect">
            <a:avLst/>
          </a:prstGeom>
          <a:solidFill>
            <a:srgbClr val="fd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i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280" y="55080"/>
            <a:ext cx="823284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PRECURSORAS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39120" cy="525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IC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rinas, Hemo, Gluta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R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ivados de folato, esfingos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TION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UTAMINA y GLUTAMA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ENILALANINA y TIROS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tecol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ROS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ramina, Melanina, Hormonas tiro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IPTOFAN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otonina, Triptamina, Melatonina, Acido nicotí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GIN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xido Ní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RINA Y METION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etilc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ISTID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tam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GININA, GLICINA Y METION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3 Rectángulo"/>
          <p:cNvSpPr/>
          <p:nvPr/>
        </p:nvSpPr>
        <p:spPr>
          <a:xfrm>
            <a:off x="324000" y="1557360"/>
            <a:ext cx="8497800" cy="484884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icroorganismos del intestino y ciertas bacterias presentes en alimentos, poseen enzimas que catalizan la descarboxilación de aminoác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forman POLIAMINAS ó “AMINAS BIÓGENA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utrefacción de proteín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: CADAVERINA (a partir de lisina) y PUTRESCINA (a partir de ornitin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sirven de marcadores para medir la calidad de la carne y su estado de conser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MINAS BIÓGENA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 tejidos animales: HISTAMINA, SEROTONINA, TRIPTAMINA Y DOPAM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60280"/>
            <a:ext cx="8244000" cy="727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CARBOXILACION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08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DE DESCARBOXI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1844640"/>
            <a:ext cx="15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16000" y="2708280"/>
            <a:ext cx="15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4653000"/>
            <a:ext cx="1944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645000"/>
            <a:ext cx="19432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8920" y="5516640"/>
            <a:ext cx="151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1628640"/>
            <a:ext cx="1223640" cy="4537080"/>
          </a:xfrm>
          <a:prstGeom prst="rightArrowCallout">
            <a:avLst>
              <a:gd name="adj1" fmla="val 46421"/>
              <a:gd name="adj2" fmla="val 46348"/>
              <a:gd name="adj3" fmla="val 31130"/>
              <a:gd name="adj4" fmla="val 3403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7640" y="3710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1916280"/>
            <a:ext cx="180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2852640"/>
            <a:ext cx="151272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I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64000" y="3789360"/>
            <a:ext cx="194328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653000"/>
            <a:ext cx="1944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5445000"/>
            <a:ext cx="187200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28000" y="292428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3789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51640" y="1916280"/>
            <a:ext cx="154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   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17080" y="1916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956720" y="465300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630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metidina ó tag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56720" y="537372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64360" y="2060640"/>
            <a:ext cx="287280" cy="73080"/>
          </a:xfrm>
          <a:custGeom>
            <a:avLst/>
            <a:gdLst>
              <a:gd name="textAreaLeft" fmla="*/ 50040 w 287280"/>
              <a:gd name="textAreaRight" fmla="*/ 208440 w 2872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2997360"/>
            <a:ext cx="718920" cy="144360"/>
          </a:xfrm>
          <a:custGeom>
            <a:avLst/>
            <a:gdLst>
              <a:gd name="textAreaLeft" fmla="*/ 125640 w 718920"/>
              <a:gd name="textAreaRight" fmla="*/ 522000 w 718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08720" y="3860640"/>
            <a:ext cx="719280" cy="144720"/>
          </a:xfrm>
          <a:custGeom>
            <a:avLst/>
            <a:gdLst>
              <a:gd name="textAreaLeft" fmla="*/ 125640 w 719280"/>
              <a:gd name="textAreaRight" fmla="*/ 522000 w 71928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36000" y="5445000"/>
            <a:ext cx="576000" cy="144720"/>
          </a:xfrm>
          <a:custGeom>
            <a:avLst/>
            <a:gdLst>
              <a:gd name="textAreaLeft" fmla="*/ 100440 w 576000"/>
              <a:gd name="textAreaRight" fmla="*/ 418320 w 576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08720" y="4724280"/>
            <a:ext cx="576360" cy="144720"/>
          </a:xfrm>
          <a:custGeom>
            <a:avLst/>
            <a:gdLst>
              <a:gd name="textAreaLeft" fmla="*/ 100800 w 576360"/>
              <a:gd name="textAreaRight" fmla="*/ 418320 w 576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392880" y="1484280"/>
            <a:ext cx="2137680" cy="1020600"/>
            <a:chOff x="6392880" y="1484280"/>
            <a:chExt cx="2137680" cy="102060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258680" y="19936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996000" y="4005360"/>
            <a:ext cx="1829160" cy="1009080"/>
            <a:chOff x="3996000" y="4005360"/>
            <a:chExt cx="1829160" cy="1009080"/>
          </a:xfrm>
        </p:grpSpPr>
        <p:sp>
          <p:nvSpPr>
            <p:cNvPr id="285" name=""/>
            <p:cNvSpPr/>
            <p:nvPr/>
          </p:nvSpPr>
          <p:spPr>
            <a:xfrm>
              <a:off x="3996000" y="4005360"/>
              <a:ext cx="1440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381800" y="321120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372360" y="3789360"/>
            <a:ext cx="2430360" cy="955800"/>
            <a:chOff x="6372360" y="3789360"/>
            <a:chExt cx="2430360" cy="955800"/>
          </a:xfrm>
        </p:grpSpPr>
        <p:pic>
          <p:nvPicPr>
            <p:cNvPr id="291" name="" descr=""/>
            <p:cNvPicPr/>
            <p:nvPr/>
          </p:nvPicPr>
          <p:blipFill>
            <a:blip r:embed="rId4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453080" y="422136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294" name="" descr=""/>
            <p:cNvPicPr/>
            <p:nvPr/>
          </p:nvPicPr>
          <p:blipFill>
            <a:blip r:embed="rId5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737400" y="4941720"/>
            <a:ext cx="1504080" cy="1297080"/>
            <a:chOff x="6737400" y="4941720"/>
            <a:chExt cx="1504080" cy="1297080"/>
          </a:xfrm>
        </p:grpSpPr>
        <p:pic>
          <p:nvPicPr>
            <p:cNvPr id="297" name="" descr=""/>
            <p:cNvPicPr/>
            <p:nvPr/>
          </p:nvPicPr>
          <p:blipFill>
            <a:blip r:embed="rId6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388640" y="5446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300" name="" descr=""/>
            <p:cNvPicPr/>
            <p:nvPr/>
          </p:nvPicPr>
          <p:blipFill>
            <a:blip r:embed="rId7"/>
            <a:srcRect l="0" t="0" r="0" b="18771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303" name="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30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" descr=""/>
              <p:cNvPicPr/>
              <p:nvPr/>
            </p:nvPicPr>
            <p:blipFill>
              <a:blip r:embed="rId9"/>
              <a:srcRect l="72719" t="-4332" r="-3855" b="42985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309" name="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11600" y="356724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Arial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41800" y="407664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114640" y="1268280"/>
            <a:ext cx="4886280" cy="4381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987640" y="1844640"/>
            <a:ext cx="936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20856600">
            <a:off x="3484800" y="1989000"/>
            <a:ext cx="1712880" cy="2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irosina hidrox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20894400">
            <a:off x="3421800" y="3788280"/>
            <a:ext cx="1712880" cy="2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opa descarbox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80000" y="3500280"/>
            <a:ext cx="12254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rena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5516640"/>
            <a:ext cx="151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adrena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00360" y="5445000"/>
            <a:ext cx="12254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pa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894400">
            <a:off x="4027680" y="5126040"/>
            <a:ext cx="1206720" cy="42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opamina </a:t>
            </a:r>
            <a:r>
              <a:rPr b="0" i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-hidrox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27640" y="5661000"/>
            <a:ext cx="861840" cy="42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ido ascórb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SINTESIS DE DOPAMINA, ADRENALINA, NORADRENA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2349360"/>
            <a:ext cx="1512720" cy="2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Biopter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56000" y="2492280"/>
            <a:ext cx="151128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Biopter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48360" y="4221000"/>
            <a:ext cx="72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1880" y="6164640"/>
            <a:ext cx="68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nactivación: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ono-amino oxidas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MAO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atecol-O-metil transferas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COMT)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to 2"/>
          <p:cNvGraphicFramePr/>
          <p:nvPr/>
        </p:nvGraphicFramePr>
        <p:xfrm>
          <a:off x="468360" y="404640"/>
          <a:ext cx="8170920" cy="61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70920" cy="612936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328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aminoácidos cuando que se degradan dan más de un produ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TRE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TRIPTOFA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TIRO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ISOLEU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393372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076640"/>
            <a:ext cx="295272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oacetil-CoA y Fuma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08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iruvato, Acetil-CoA, Aceto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5950080"/>
            <a:ext cx="3887640" cy="45972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623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1484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iruvato, 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19162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06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3284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ACIDOS CETOGENICOS Y GLUCOGE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5520" y="1844640"/>
            <a:ext cx="8232840" cy="45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Glucogé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s esqueletos carbonados pueden utilizarse para la síntesis de glucosa (aa. no esen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Cetogé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s esqueletos carbonados pueden ser convertidos en cuerpos cetónicos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Leucina y Lis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glucogénicos y cetogénicos: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Fenilalanina, Tirosina, Isoleucina y 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66400" cy="1368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FACTORES UTILIZADOS EN REACCIONES DE DEGRADACION DE ESQUELETOS CARB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857240"/>
            <a:ext cx="8232840" cy="452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ETRAHIDROFOLATO (FH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ransferencia de unidades de un carbono (metilo, formilo, metilen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-ADENOSILMETIONINA (SAM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nsferencia de meti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ETRAHIDROBIOPTERINA (BH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ransportador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32840" cy="114156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ORMACION DE S-ADENOSIL METIONINA (SAM ó AdoM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341360"/>
          <a:ext cx="507996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50799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227640" y="1557360"/>
            <a:ext cx="2449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TI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0" y="2276640"/>
            <a:ext cx="649080" cy="1728720"/>
          </a:xfrm>
          <a:prstGeom prst="downArrow">
            <a:avLst>
              <a:gd name="adj1" fmla="val 50000"/>
              <a:gd name="adj2" fmla="val 66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4149720"/>
            <a:ext cx="3097440" cy="230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PAL DO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METI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16360" y="2276640"/>
            <a:ext cx="71280" cy="24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916280"/>
            <a:ext cx="2952720" cy="50472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4869000"/>
            <a:ext cx="3559320" cy="86508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MOCIS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2349360"/>
            <a:ext cx="922320" cy="73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2421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  <a:ea typeface="SimSun"/>
              </a:rPr>
              <a:t>CH</a:t>
            </a:r>
            <a:r>
              <a:rPr b="1" lang="es-MX" sz="3200" spc="-1" strike="noStrike" baseline="-25000">
                <a:solidFill>
                  <a:srgbClr val="ff0000"/>
                </a:solidFill>
                <a:latin typeface="Arial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593600">
            <a:off x="5364000" y="2565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c5c5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2708280"/>
            <a:ext cx="284328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SimSun"/>
              </a:rPr>
              <a:t>SÍNTESIS DE COMPUESTO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ción de B12 sobre transporte 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2233440"/>
            <a:ext cx="0" cy="1154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8" idx="1"/>
            <a:endCxn id="107" idx="1"/>
          </p:cNvCxnSpPr>
          <p:nvPr/>
        </p:nvCxnSpPr>
        <p:spPr>
          <a:xfrm flipH="1" rot="10800000">
            <a:off x="2484000" y="2167920"/>
            <a:ext cx="504000" cy="3134160"/>
          </a:xfrm>
          <a:prstGeom prst="bentConnector3">
            <a:avLst>
              <a:gd name="adj1" fmla="val -45389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6" name=""/>
          <p:cNvSpPr/>
          <p:nvPr/>
        </p:nvSpPr>
        <p:spPr>
          <a:xfrm>
            <a:off x="2916360" y="2637000"/>
            <a:ext cx="64764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3213000"/>
            <a:ext cx="186516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-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205000"/>
            <a:ext cx="108108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726920" y="2744280"/>
            <a:ext cx="792360" cy="287280"/>
          </a:xfrm>
          <a:custGeom>
            <a:avLst/>
            <a:gdLst>
              <a:gd name="textAreaLeft" fmla="*/ 138600 w 792360"/>
              <a:gd name="textAreaRight" fmla="*/ 5745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2421000"/>
            <a:ext cx="1081080" cy="936720"/>
          </a:xfrm>
          <a:prstGeom prst="ellipse">
            <a:avLst/>
          </a:prstGeom>
          <a:solidFill>
            <a:srgbClr val="f3e80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637000"/>
            <a:ext cx="807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7000">
            <a:off x="4427280" y="314172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c5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TILIZACION DE METILOS DE METIONINA EN REACCIONES DE 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rena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eti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1628640"/>
            <a:ext cx="252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eatina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2708280"/>
            <a:ext cx="2521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3716280"/>
            <a:ext cx="252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5084640"/>
            <a:ext cx="252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773360"/>
            <a:ext cx="1295280" cy="360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2781360"/>
            <a:ext cx="1295280" cy="360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933720"/>
            <a:ext cx="1295640" cy="36036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5157720"/>
            <a:ext cx="1295280" cy="360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5280" y="5084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3248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ACIDOS QUE FORMAN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1341360"/>
            <a:ext cx="2232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349360"/>
            <a:ext cx="23767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581360"/>
            <a:ext cx="18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2781360"/>
            <a:ext cx="15112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781360"/>
            <a:ext cx="2627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ETALDEH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581360"/>
            <a:ext cx="1511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60" y="5300640"/>
            <a:ext cx="187164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TE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6165720"/>
            <a:ext cx="20890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6202440"/>
            <a:ext cx="2663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1916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57520" y="1838520"/>
            <a:ext cx="558720" cy="80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4000" y="5084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16360" y="5639760"/>
            <a:ext cx="574200" cy="33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299736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932000" y="5084640"/>
            <a:ext cx="165564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386064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999320" y="6527880"/>
            <a:ext cx="998280" cy="2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191628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reonina ald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33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erina OH-metil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530064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LT ó        G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500280"/>
            <a:ext cx="230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et F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4221000"/>
            <a:ext cx="720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3429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3716280"/>
            <a:ext cx="503280" cy="79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300640"/>
            <a:ext cx="719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5164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3284640"/>
            <a:ext cx="194472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ETIL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04000" y="3357720"/>
            <a:ext cx="36036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72360" y="436572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149720"/>
            <a:ext cx="86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6093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xidación y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Acosta</cp:lastModifiedBy>
  <dcterms:modified xsi:type="dcterms:W3CDTF">2013-10-16T01:22:07Z</dcterms:modified>
  <cp:revision>221</cp:revision>
  <dc:subject/>
  <dc:title>Diapositiva 1</dc:title>
</cp:coreProperties>
</file>